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0.png" ContentType="image/png"/>
  <Override PartName="/ppt/media/image127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90.png" ContentType="image/png"/>
  <Override PartName="/ppt/media/image31.png" ContentType="image/png"/>
  <Override PartName="/ppt/media/image24.png" ContentType="image/png"/>
  <Override PartName="/ppt/media/image53.png" ContentType="image/png"/>
  <Override PartName="/ppt/media/image14.wmf" ContentType="image/x-wmf"/>
  <Override PartName="/ppt/media/image57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4.wmf" ContentType="image/x-wmf"/>
  <Override PartName="/ppt/media/image123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02.png" ContentType="image/png"/>
  <Override PartName="/ppt/media/image95.png" ContentType="image/png"/>
  <Override PartName="/ppt/media/image103.png" ContentType="image/png"/>
  <Override PartName="/ppt/media/image96.png" ContentType="image/png"/>
  <Override PartName="/ppt/media/image126.png" ContentType="image/png"/>
  <Override PartName="/ppt/media/image114.png" ContentType="image/png"/>
  <Override PartName="/ppt/media/image70.png" ContentType="image/png"/>
  <Override PartName="/ppt/media/image125.png" ContentType="image/png"/>
  <Override PartName="/ppt/media/image124.png" ContentType="image/png"/>
  <Override PartName="/ppt/media/image112.png" ContentType="image/png"/>
  <Override PartName="/ppt/media/image122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21.png" ContentType="image/png"/>
  <Override PartName="/ppt/media/image116.png" ContentType="image/png"/>
  <Override PartName="/ppt/media/image72.png" ContentType="image/png"/>
  <Override PartName="/ppt/media/image115.png" ContentType="image/png"/>
  <Override PartName="/ppt/media/image89.png" ContentType="image/png"/>
  <Override PartName="/ppt/media/image111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120.png" ContentType="image/png"/>
  <Override PartName="/ppt/media/image69.png" ContentType="image/png"/>
  <Override PartName="/ppt/media/image68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19.wmf" ContentType="image/x-wmf"/>
  <Override PartName="/ppt/media/image113.png" ContentType="image/png"/>
  <Override PartName="/ppt/media/image117.png" ContentType="image/png"/>
  <Override PartName="/ppt/media/image20.png" ContentType="image/png"/>
  <Override PartName="/ppt/media/image18.png" ContentType="image/png"/>
  <Override PartName="/ppt/media/image8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16D-36D3-4870-AB3B-BAF05169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03EE-4C78-479A-B985-1D45BCD9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B77-6625-43AB-8754-43F87349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997A-EA0D-4A30-8D30-C5D62093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352-8C4A-4E5A-A4E7-A92A79E0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D7B-A18B-4B7F-82D8-57976E2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778-9F19-458B-A694-2F1EEEF4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4AF-8B75-40A7-B7E7-6BB57035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FB7-6838-4B35-8EBE-95CF730D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833-D922-495F-A4A7-5C0FF829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799-1FCE-4350-85CE-F321F29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0BA-21DC-4FFF-9C92-AF6E3535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2409-0BDF-49C3-9810-0A4E25EA0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3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3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3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3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9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3.png"/><Relationship Id="rId3" Type="http://schemas.openxmlformats.org/officeDocument/2006/relationships/image" Target="../media/image88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wmf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image" Target="../media/image97.png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image" Target="../media/image3.png"/><Relationship Id="rId4" Type="http://schemas.openxmlformats.org/officeDocument/2006/relationships/image" Target="../media/image119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image" Target="../media/image12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ccffc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8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ts and Cou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4864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0962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1066680"/>
            <a:ext cx="5181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25780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77724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715000" cy="47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14400" y="1219320"/>
            <a:ext cx="7086600" cy="563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680" y="2286000"/>
            <a:ext cx="9139320" cy="11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8153280" cy="58896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81280" y="380880"/>
            <a:ext cx="4876920" cy="54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52280" y="1295280"/>
            <a:ext cx="8991720" cy="1552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62320" y="3200400"/>
            <a:ext cx="457200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133360" cy="75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2133720"/>
            <a:ext cx="8601120" cy="229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6232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480" y="762120"/>
            <a:ext cx="8912160" cy="237312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6600" y="3429000"/>
            <a:ext cx="9020160" cy="3139920"/>
            <a:chOff x="66600" y="3429000"/>
            <a:chExt cx="9020160" cy="313992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609480" y="3429000"/>
              <a:ext cx="23623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66600" y="4038480"/>
              <a:ext cx="9020160" cy="2530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040" y="380880"/>
            <a:ext cx="8967960" cy="1228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3" name=""/>
          <p:cNvGrpSpPr/>
          <p:nvPr/>
        </p:nvGrpSpPr>
        <p:grpSpPr>
          <a:xfrm>
            <a:off x="228600" y="2819520"/>
            <a:ext cx="8510760" cy="1523520"/>
            <a:chOff x="228600" y="2819520"/>
            <a:chExt cx="8510760" cy="1523520"/>
          </a:xfrm>
        </p:grpSpPr>
        <p:grpSp>
          <p:nvGrpSpPr>
            <p:cNvPr id="44" name=""/>
            <p:cNvGrpSpPr/>
            <p:nvPr/>
          </p:nvGrpSpPr>
          <p:grpSpPr>
            <a:xfrm>
              <a:off x="380880" y="2819520"/>
              <a:ext cx="8077320" cy="580680"/>
              <a:chOff x="380880" y="2819520"/>
              <a:chExt cx="8077320" cy="580680"/>
            </a:xfrm>
          </p:grpSpPr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2680" y="2895480"/>
                <a:ext cx="5105520" cy="41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2819520"/>
                <a:ext cx="2838600" cy="58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228600" y="3733560"/>
              <a:ext cx="851076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43200" y="4800600"/>
            <a:ext cx="29718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2286000" cy="585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2000" y="914400"/>
            <a:ext cx="898200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990720" y="2246400"/>
            <a:ext cx="7315200" cy="312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0" y="5381640"/>
            <a:ext cx="914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ccffc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2057400"/>
            <a:ext cx="83818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8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mutations and Comb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0160" y="3124080"/>
            <a:ext cx="89438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380880"/>
            <a:ext cx="5657760" cy="352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1162080"/>
            <a:ext cx="8844120" cy="1962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228600" y="4114800"/>
            <a:ext cx="883908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52640" y="76320"/>
            <a:ext cx="703872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057400" cy="587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3480" y="990720"/>
            <a:ext cx="9077040" cy="338616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47600" y="4648320"/>
            <a:ext cx="8844120" cy="1514520"/>
            <a:chOff x="147600" y="4648320"/>
            <a:chExt cx="8844120" cy="151452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533520" y="4648320"/>
              <a:ext cx="274320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886200" y="4746600"/>
              <a:ext cx="304812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5"/>
            <a:stretch/>
          </p:blipFill>
          <p:spPr>
            <a:xfrm>
              <a:off x="147600" y="5486400"/>
              <a:ext cx="8844120" cy="676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8600" y="3084480"/>
            <a:ext cx="8686800" cy="6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847800"/>
            <a:ext cx="79012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76320" y="3154320"/>
            <a:ext cx="8991360" cy="2789280"/>
            <a:chOff x="76320" y="3154320"/>
            <a:chExt cx="8991360" cy="27892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76320" y="3962520"/>
              <a:ext cx="8991360" cy="19810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22" name=""/>
            <p:cNvSpPr/>
            <p:nvPr/>
          </p:nvSpPr>
          <p:spPr>
            <a:xfrm>
              <a:off x="1447920" y="3154320"/>
              <a:ext cx="678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hree Types of Permuta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991720" cy="43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2485800" cy="509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52280" y="1676520"/>
            <a:ext cx="8991720" cy="120960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380880" y="3429000"/>
            <a:ext cx="8280360" cy="2827440"/>
            <a:chOff x="380880" y="3429000"/>
            <a:chExt cx="8280360" cy="2827440"/>
          </a:xfrm>
        </p:grpSpPr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457200" y="3429000"/>
              <a:ext cx="17524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380880" y="4038480"/>
              <a:ext cx="8280360" cy="221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48025" r="0" b="0"/>
          <a:stretch/>
        </p:blipFill>
        <p:spPr>
          <a:xfrm>
            <a:off x="228600" y="990720"/>
            <a:ext cx="8686800" cy="62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514600" cy="514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0" r="61199" b="59023"/>
          <a:stretch/>
        </p:blipFill>
        <p:spPr>
          <a:xfrm>
            <a:off x="3124080" y="380880"/>
            <a:ext cx="2895840" cy="424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28600" y="1523880"/>
            <a:ext cx="8767800" cy="933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52280" y="3019320"/>
            <a:ext cx="8696520" cy="819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1219320" y="4495680"/>
            <a:ext cx="609588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746784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1295280"/>
            <a:ext cx="3733560" cy="565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685800" y="2209680"/>
            <a:ext cx="693432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848720" cy="1620720"/>
          </a:xfrm>
          <a:prstGeom prst="rect">
            <a:avLst/>
          </a:prstGeom>
          <a:ln w="38160">
            <a:solidFill>
              <a:srgbClr val="0066cc"/>
            </a:solidFill>
            <a:miter/>
          </a:ln>
        </p:spPr>
      </p:pic>
      <p:grpSp>
        <p:nvGrpSpPr>
          <p:cNvPr id="139" name=""/>
          <p:cNvGrpSpPr/>
          <p:nvPr/>
        </p:nvGrpSpPr>
        <p:grpSpPr>
          <a:xfrm>
            <a:off x="384120" y="1905120"/>
            <a:ext cx="8454960" cy="4876560"/>
            <a:chOff x="384120" y="1905120"/>
            <a:chExt cx="8454960" cy="487656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57200" y="1905120"/>
              <a:ext cx="198108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84120" y="2422440"/>
              <a:ext cx="8454960" cy="43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429000" y="304920"/>
            <a:ext cx="5029200" cy="461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1219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:   (a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4)        (b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, 2)         (c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0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24280" y="3733920"/>
            <a:ext cx="312444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57200" y="2133720"/>
            <a:ext cx="388152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4724280" cy="509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6765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have a group of four people that each have a different birthday, how many possible ways could this occ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88390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104840"/>
            <a:ext cx="8724960" cy="1028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53" name=""/>
          <p:cNvGrpSpPr/>
          <p:nvPr/>
        </p:nvGrpSpPr>
        <p:grpSpPr>
          <a:xfrm>
            <a:off x="304920" y="3352680"/>
            <a:ext cx="8153280" cy="1663560"/>
            <a:chOff x="304920" y="3352680"/>
            <a:chExt cx="8153280" cy="166356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380880" y="3352680"/>
              <a:ext cx="28382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3504960" y="3429000"/>
              <a:ext cx="41144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04920" y="419076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st all the combinations of the 4 colors, red, green, yellow and blue taken 3 at a time.  What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, 3)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657360"/>
            <a:ext cx="1752480" cy="56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160" y="1195560"/>
            <a:ext cx="906768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2743200" cy="392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280" y="1371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each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2)      (b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, 2)      (c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n)      (d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, 0)     (e)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0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410080" y="2743200"/>
            <a:ext cx="2971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49626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4343400" cy="544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5800" y="1066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different committees of 4 people can be formed from a pool of 8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124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ways can a committee consisting of 3 boys and 2 girls be formed if there are 7 boys and 10 girls eligible to serve on the committ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971800" y="5730840"/>
            <a:ext cx="359100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2935440"/>
            <a:ext cx="8763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380880"/>
            <a:ext cx="5715000" cy="47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914400" y="1219320"/>
            <a:ext cx="708660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4680" y="2819520"/>
            <a:ext cx="913932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657600" y="533520"/>
            <a:ext cx="4991040" cy="485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different words (real or imaginary) can be formed using all the letters in the word REARRAN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8600" y="2666880"/>
            <a:ext cx="8686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905120" cy="533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19160" y="1525680"/>
            <a:ext cx="89154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3886200" cy="6159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62120" y="1219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different vertical arrangements are there of 10 flags if 5 are white, 4 are blue and 2 are 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438280" y="4952880"/>
            <a:ext cx="393084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ccffcc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8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581280" y="380880"/>
            <a:ext cx="4191120" cy="56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8634240" cy="2276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352680" y="3886200"/>
            <a:ext cx="2143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391520" cy="8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520" y="1273320"/>
            <a:ext cx="904896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2362320" cy="484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971800" y="76320"/>
            <a:ext cx="5715000" cy="39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0" t="0" r="0" b="81179"/>
          <a:stretch/>
        </p:blipFill>
        <p:spPr>
          <a:xfrm>
            <a:off x="219240" y="762120"/>
            <a:ext cx="8705520" cy="1143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1143000" y="1828800"/>
            <a:ext cx="67086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5410440" cy="377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352680" y="2133720"/>
            <a:ext cx="2190960" cy="1476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0" y="1085760"/>
            <a:ext cx="9001080" cy="895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152280" y="4038480"/>
            <a:ext cx="87678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38120" y="3171960"/>
            <a:ext cx="82677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8012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2133360" cy="571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85760" y="1438200"/>
            <a:ext cx="8772480" cy="3981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590920" cy="530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8686800" cy="785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28520" y="1676520"/>
            <a:ext cx="893916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191120" cy="40798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029200" y="3733920"/>
            <a:ext cx="2971800" cy="1414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415800"/>
            <a:ext cx="5486400" cy="346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11430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experiment of drawing a card from a standard 52 card deck of playing cards (ace through king, four suits). 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event “draw a heart” and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event “draw an a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990720" y="2819520"/>
            <a:ext cx="4038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04920" y="3152880"/>
            <a:ext cx="84582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1905120" cy="473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09600" y="2011320"/>
            <a:ext cx="85233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7848360" cy="792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7520" y="1905120"/>
            <a:ext cx="9020160" cy="809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838080" y="5715000"/>
            <a:ext cx="7239240" cy="895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28600" y="2857680"/>
            <a:ext cx="2676600" cy="19429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200400" y="2895480"/>
            <a:ext cx="2666880" cy="1886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6095880" y="2895480"/>
            <a:ext cx="26766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209680" cy="6015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367480" cy="3230280"/>
          </a:xfrm>
          <a:prstGeom prst="rect">
            <a:avLst/>
          </a:prstGeom>
          <a:ln w="0">
            <a:noFill/>
          </a:ln>
        </p:spPr>
      </p:pic>
      <p:grpSp>
        <p:nvGrpSpPr>
          <p:cNvPr id="224" name=""/>
          <p:cNvGrpSpPr/>
          <p:nvPr/>
        </p:nvGrpSpPr>
        <p:grpSpPr>
          <a:xfrm>
            <a:off x="28440" y="4419720"/>
            <a:ext cx="9020160" cy="2181600"/>
            <a:chOff x="28440" y="4419720"/>
            <a:chExt cx="9020160" cy="2181600"/>
          </a:xfrm>
        </p:grpSpPr>
        <p:pic>
          <p:nvPicPr>
            <p:cNvPr id="225" name="" descr="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283860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4"/>
            <a:stretch/>
          </p:blipFill>
          <p:spPr>
            <a:xfrm>
              <a:off x="28440" y="5181480"/>
              <a:ext cx="9020160" cy="3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04920" y="5715000"/>
              <a:ext cx="84582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0.6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= 0.35,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are mutually exclusive, fi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47760" y="3143160"/>
            <a:ext cx="84913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85760" y="380880"/>
            <a:ext cx="8772480" cy="147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31" name=""/>
          <p:cNvGrpSpPr/>
          <p:nvPr/>
        </p:nvGrpSpPr>
        <p:grpSpPr>
          <a:xfrm>
            <a:off x="155520" y="2971800"/>
            <a:ext cx="8912160" cy="3449520"/>
            <a:chOff x="155520" y="2971800"/>
            <a:chExt cx="8912160" cy="3449520"/>
          </a:xfrm>
        </p:grpSpPr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380880" y="2971800"/>
              <a:ext cx="2057400" cy="64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155520" y="3657600"/>
              <a:ext cx="8912160" cy="27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153640" cy="474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80880" y="1905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local news the weather reporter stated that the probability of rain tomorrow is 30%.  What is the probability that it will not r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4200" y="304920"/>
            <a:ext cx="880128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152280" y="2057400"/>
            <a:ext cx="8991720" cy="3002040"/>
            <a:chOff x="152280" y="2057400"/>
            <a:chExt cx="8991720" cy="300204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304920" y="2057400"/>
              <a:ext cx="28382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609480" y="2819520"/>
              <a:ext cx="7620120" cy="4824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1" name=""/>
            <p:cNvGraphicFramePr/>
            <p:nvPr/>
          </p:nvGraphicFramePr>
          <p:xfrm>
            <a:off x="380880" y="3505320"/>
            <a:ext cx="8382240" cy="609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3505320"/>
                      <a:ext cx="838224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152280" y="4419720"/>
              <a:ext cx="8991720" cy="63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3809880" cy="590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533520" y="12193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ability that in a group of 10 people at least 2 people have the same birthday?  Assume that there are 365 days in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0880" y="2457360"/>
            <a:ext cx="7877160" cy="4170600"/>
            <a:chOff x="380880" y="2457360"/>
            <a:chExt cx="7877160" cy="4170600"/>
          </a:xfrm>
        </p:grpSpPr>
        <p:pic>
          <p:nvPicPr>
            <p:cNvPr id="241" name="" descr=""/>
            <p:cNvPicPr/>
            <p:nvPr/>
          </p:nvPicPr>
          <p:blipFill>
            <a:blip r:embed="rId3"/>
            <a:srcRect l="0" t="18968" r="46318" b="0"/>
            <a:stretch/>
          </p:blipFill>
          <p:spPr>
            <a:xfrm>
              <a:off x="380880" y="2743200"/>
              <a:ext cx="754380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4"/>
            <a:srcRect l="53103" t="18968" r="0" b="0"/>
            <a:stretch/>
          </p:blipFill>
          <p:spPr>
            <a:xfrm>
              <a:off x="1676520" y="4876920"/>
              <a:ext cx="6581520" cy="175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5"/>
            <a:stretch/>
          </p:blipFill>
          <p:spPr>
            <a:xfrm>
              <a:off x="3505320" y="2457360"/>
              <a:ext cx="214308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3733920" y="4591080"/>
              <a:ext cx="21430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739152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1360" y="380880"/>
            <a:ext cx="8801280" cy="76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772400" cy="558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304920" y="2286000"/>
            <a:ext cx="8001000" cy="2894040"/>
            <a:chOff x="304920" y="2286000"/>
            <a:chExt cx="8001000" cy="2894040"/>
          </a:xfrm>
        </p:grpSpPr>
        <p:graphicFrame>
          <p:nvGraphicFramePr>
            <p:cNvPr id="69" name=""/>
            <p:cNvGraphicFramePr/>
            <p:nvPr/>
          </p:nvGraphicFramePr>
          <p:xfrm>
            <a:off x="457200" y="4038480"/>
            <a:ext cx="7848720" cy="114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4038480"/>
                      <a:ext cx="7848720" cy="114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1" name="" descr=""/>
            <p:cNvPicPr/>
            <p:nvPr/>
          </p:nvPicPr>
          <p:blipFill>
            <a:blip r:embed="rId5"/>
            <a:stretch/>
          </p:blipFill>
          <p:spPr>
            <a:xfrm>
              <a:off x="990720" y="3124080"/>
              <a:ext cx="731520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6"/>
            <a:stretch/>
          </p:blipFill>
          <p:spPr>
            <a:xfrm>
              <a:off x="304920" y="2286000"/>
              <a:ext cx="2838240" cy="58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48520" cy="36752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505320" y="5105520"/>
            <a:ext cx="289548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4:04:29Z</dcterms:created>
  <dc:creator>haidersh</dc:creator>
  <dc:description/>
  <dc:language>en-US</dc:language>
  <cp:lastModifiedBy>image</cp:lastModifiedBy>
  <dcterms:modified xsi:type="dcterms:W3CDTF">2006-04-28T15:28:13Z</dcterms:modified>
  <cp:revision>796</cp:revision>
  <dc:subject/>
  <dc:title>Slide 1</dc:title>
</cp:coreProperties>
</file>